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26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03B-E256-4B88-A85F-51F8BEFD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A1C6-5766-4C22-87F3-DF038F12AC3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60C5-B203-4576-984C-0C734F57FF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86A5-095A-4232-9B1C-FD4B3D9B190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059-906B-42CA-8300-FA7E2A3F32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E45-06D9-43E8-B3B8-E29BC468022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352-0CED-433E-9714-6D5C59C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0C9-9876-4B85-AE0C-F9E8733E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9AC-EDE6-48CE-8390-8766034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BB3-AE8C-4BCD-88FC-A6C69E5D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19B1-159B-47A5-9DAC-D820EFB6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DF8-6EA2-40E1-ACEF-142A052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3B2E-7055-4C38-B572-2B8ECB9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D233-73E3-4E6E-8ED5-B7B2BB1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E62-2F17-4437-85EB-AD9C2FF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59F-EA73-4357-B1E6-E266E1E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68D-965F-4F5C-A4EE-241FB45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3AD-567C-4AA1-BFFB-F5B1153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E929-7360-421E-A2CC-8867088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F4A1-89BF-45CA-B5EC-69420CE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C576-F101-4051-A388-FCCDE771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5484-B21D-4404-B055-369EC663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AAC-4CA8-45CC-BFA9-EBAD2BB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40EE-EAE2-4519-BFA6-BF908E8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7DE4-7A1E-4B66-A753-75C32B81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31E6-3D22-4595-9990-14667D94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83AA-4F8B-4E0C-8323-6C74CABD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0EE4-319A-434A-812E-DDFF488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306-4E1F-4959-9362-46BEC55D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BF93-171D-4E2E-A780-4339004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A811-12CC-4D2D-9196-E9F8A54F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ADA4-847B-48E1-A9CA-78845DC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9B72-4D4D-434E-886F-C216B083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7D15-3C3C-4C68-94D9-DDADC706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FA0C-D1D1-4265-9E6F-683B71E8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14FF-3BDC-4757-9F21-26A550A7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C371-71C6-4986-BDE2-29805CDF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0359-698D-45F6-A98E-064849C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6C04-3CB6-4F37-8F9A-7E9AACAF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135-BE0F-47E5-97D1-CB45451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61DF-0E5C-47EB-8806-085E7E6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C424-5B81-45B0-A18E-ED38F9EF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E93C-BC61-4791-AE8C-1521730C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BC47-2047-45E1-A337-20DC52F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077D-7A2F-493D-9B56-32E513A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6B2C-1023-4ACC-A854-6F5663D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AEB7-3AFE-4847-B62F-82938DD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7E13-44DA-4D9A-BAE1-B9AFB05C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7EDF-F322-4990-95E0-3D0CA842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663D-AFEB-4231-B4C5-2392E24D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CFA-6DE0-4B4C-B7CA-EC6B96E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48A3-413C-4D91-BEC2-54B0E8E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D37C-7F43-4EC3-9D84-446FB807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A535-027E-48CE-B3EA-1864DF48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AE780-85D7-4361-8A77-857BAF4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B6EF-C999-4754-BE60-473D602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7D1F-2A05-4C2B-AF81-3D1036F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8FFE6-22C3-4B2B-8657-D9A72C3B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9AE0-0C13-4077-853F-F86D7FE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E965-5040-407B-B70D-7AFB748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53A1-BD09-4129-B1C7-39FDF25F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A93-0C11-4E35-ABC7-BE5620A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B91C-92B1-4F7E-81EC-91F9C464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AA55-31D0-4F43-854F-D9DED227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CE64-FFB8-43C7-92FA-B0EDBB7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1563-70AD-43AF-BAF9-0B81369A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58EE-ACFC-41E8-8CBA-87A01A6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7859-C195-4226-BB48-97212F5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DC9F-BC19-4FD7-A0EE-8786780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8CA7-A032-453C-B130-686C5A0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C1FE-EC4B-41AF-B2F6-D151F7C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2D16-9AF3-4AC1-A2A0-D3B9598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554-6480-4EBA-BB02-FA509E23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1B3D-EC5E-45E5-84C7-230B8C9D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50E2-607A-4581-A3B2-FF81F7DC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E542-1132-4AAD-ACE9-D5CF279F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5226-61CC-4993-B62A-73DD06A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6884-448B-4AC6-96C7-C1362B1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0A15-6918-42F0-915C-D1CCE174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1174-D710-4A97-9540-BF85F72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3EE7-B5B1-4B47-9DBC-7E3C4B76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D4EF5-7310-404A-A43A-883B96A6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CEFC-3D9C-461E-A81A-79592B2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2EE-2AAE-4E90-88F1-5DCE0F2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9820-844B-4F48-8B9C-7A98A5C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F604-DCC1-4305-9A23-DE79FD9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5EACB-D889-46E0-8485-A0A91E88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E2DED-0F33-4503-856B-CD9CE105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419D-1D3D-4D0B-B95D-6ED6EB2F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A79-F464-4AC4-843D-EF67E4F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6C9-B8FF-47A8-B3A7-E3E1B3BD8A9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7174-0052-4C90-BBF8-91B708079DB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931C-6175-4916-9CA7-E8BA65A98C5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8CD-6B80-4313-B59F-23786A33CBD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1AE-B311-4A12-9D70-8BFB209A2E3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EAE-D5DA-4D62-9F61-493CE371BCF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1B71-8FE2-4E94-9C0F-1637BB63476D}" type="datetime">
              <a:rPr b="0" lang="en-US" sz="1000" spc="-1" strike="noStrike">
                <a:solidFill>
                  <a:srgbClr val="9b9a98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EAE8-350B-469B-B815-2A6A8DC9221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AD1-05D4-4F76-B8D9-19EFFD3FE7C6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36960" y="202680"/>
            <a:ext cx="6107040" cy="253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ТРАХОСПИТАЛНЕ</a:t>
            </a:r>
            <a:r>
              <a:rPr b="0" lang="sr-Latn-C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R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болничке или нозокомијалне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4726080" y="511812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Проф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. др Биљана Поповска-Јович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D:\Users\Predrag Canovic\Desktop\intrahospitalne infekcije\2.jpg"/>
          <p:cNvPicPr/>
          <p:nvPr/>
        </p:nvPicPr>
        <p:blipFill>
          <a:blip r:embed="rId2"/>
          <a:stretch/>
        </p:blipFill>
        <p:spPr>
          <a:xfrm>
            <a:off x="347760" y="260280"/>
            <a:ext cx="2995560" cy="2995560"/>
          </a:xfrm>
          <a:prstGeom prst="rect">
            <a:avLst/>
          </a:prstGeom>
          <a:ln w="0">
            <a:noFill/>
          </a:ln>
        </p:spPr>
      </p:pic>
      <p:pic>
        <p:nvPicPr>
          <p:cNvPr id="309" name="Audio 4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Најважнији вируси као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Пренос ваздух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Influenza, VZV,  Morbilli, Parainfluenza, Respiratorni sincijalni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Фекоорални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 пре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otavirus, Norovi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Директни конта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HSV1, HSV2,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Вируси који се преносе путем крви и крвних дери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HBV, HCV, H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6DD2-8980-4C62-906D-B65E5F25475C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Гљивице као 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699920"/>
            <a:ext cx="51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00"/>
                </a:solidFill>
                <a:latin typeface="Comic Sans MS"/>
              </a:rPr>
              <a:t>Квасниц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Candida spp. (C. albicans, C. glabrata, C.krusei, C.tropicali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Плес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Aspergillus spp, Acremonium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Muc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mbria"/>
              </a:rPr>
              <a:t>Rhizopus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0E6-A3A1-4FFE-A860-45A94A8093A6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5224320" y="2698920"/>
            <a:ext cx="3657600" cy="232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72" name="Audio 12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9720" y="933480"/>
            <a:ext cx="607212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честалост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азличит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77840" y="1891800"/>
            <a:ext cx="7796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мокраћ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услед манипулација у мокраћном тра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д 20-25% болесника са уринарним кате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респоратор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а пнеумонија је друга по учесталости болничк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 хоспитализацију болесника за 4-9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 се креће између 20-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E22-4155-4B57-9A4A-F15B8C36CACC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Audio 3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23400" y="1892160"/>
            <a:ext cx="7937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хируршк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12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зв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з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крв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рв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)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чин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ћи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овеза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им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и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9B7-3631-45E7-8B64-9441CB95268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Audio 5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038240" y="1000440"/>
            <a:ext cx="62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Најзначајнији облици резистенције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ултирезистентни микроорганизми</a:t>
            </a:r>
            <a:r>
              <a:rPr b="0" lang="sr-R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61920" y="2084400"/>
            <a:ext cx="77202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ч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слов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ест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етицил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Staphylococcus aureus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Enterococcus (VR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улти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апић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BL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е проширеног спектра деловањ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љив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A0F7-C599-4CF8-8943-1EB1C247405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D:\Users\Predrag Canovic\Desktop\intrahospitalne infekcije\4.jpg"/>
          <p:cNvPicPr/>
          <p:nvPr/>
        </p:nvPicPr>
        <p:blipFill>
          <a:blip r:embed="rId1"/>
          <a:stretch/>
        </p:blipFill>
        <p:spPr>
          <a:xfrm>
            <a:off x="6222960" y="4427640"/>
            <a:ext cx="2687760" cy="2014560"/>
          </a:xfrm>
          <a:prstGeom prst="rect">
            <a:avLst/>
          </a:prstGeom>
          <a:ln w="0">
            <a:noFill/>
          </a:ln>
        </p:spPr>
      </p:pic>
      <p:pic>
        <p:nvPicPr>
          <p:cNvPr id="384" name="Audio 7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033560" y="804600"/>
            <a:ext cx="75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Најважнији поступци у смањивању појаве и контроли мултирезистентних микр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961920" y="2084400"/>
            <a:ext cx="801540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ктивно праћење инфекција и препознавање типова резистенција на антибио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ра микробиолошка лабораторијска пр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лотворна контрола употребе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Развијање и примена адекватних мера за контролу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декватно чишћење и деконтаминација болничке сред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дукација и практична обука здравственог особ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B28-11F0-42DF-996B-BC863D097B73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Audio 7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1000080" y="10411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етицилин резистентни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МRS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955800" y="2162160"/>
            <a:ext cx="7918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зазива инфекције коже и меких ткива, као и системск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30% здравих особа има  у н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МRSА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 главни болнички патоген у свету (ЈИН, инфекције васкуларних/ортопедских имплантата, инфекције хируршких рана, сепсе, пнеумон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DF8-DAD1-4061-B742-F60D5E9DA7F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Audio 9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923760" y="1969920"/>
            <a:ext cx="80154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звор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лонизациј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ут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лав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ношењ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к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дравстве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д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адеква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а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ндемич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075-D140-4672-A080-D2C66475B80B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Audio 4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154160" y="824040"/>
            <a:ext cx="62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Ванкомицин-резистентним Enterococcus (VR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077840" y="2200320"/>
            <a:ext cx="78343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шестру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рај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магал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нтрал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енск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ренов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Живо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гроже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нколош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ељењ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ј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а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тра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орак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ртопедс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олош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ш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снов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946-F966-4242-B488-129E9292D4FE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Audio 8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1038240" y="1382760"/>
            <a:ext cx="783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Enterococcus faecium и Enterococcus fecali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 сапрофити у интестиналном тракту (због употребе широкоспектралних антибиотика могу постати патоге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Начин прено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са болесника на болесника преко руку здравственог особља или преко контаминиране опреме за негу болес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1E95-AA72-4EB1-88A0-13EEE7267FE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Audio 7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91960" y="893880"/>
            <a:ext cx="568476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Дефиниција</a:t>
            </a:r>
            <a:r>
              <a:rPr b="0" i="1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болничких инфекција (БИ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85960" y="2063880"/>
            <a:ext cx="7603920" cy="386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4000"/>
          </a:bodyPr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линичк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споље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бољ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ављај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равк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а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собљ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рад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48</a:t>
            </a:r>
            <a:r>
              <a:rPr b="0" lang="en-US" sz="2000" spc="-1" strike="noStrike" baseline="30000">
                <a:solidFill>
                  <a:srgbClr val="002060"/>
                </a:solidFill>
                <a:latin typeface="Cambria"/>
                <a:ea typeface="Arial"/>
              </a:rPr>
              <a:t> h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кон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 и унутар 3 дана након отпу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фекци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л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сут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т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т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кубациј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ликом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ема пореклу могу бити ендогене и егзоге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AFD-551D-4201-927F-1C012326A8E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6877080" y="5234040"/>
            <a:ext cx="1700280" cy="1503360"/>
          </a:xfrm>
          <a:prstGeom prst="rect">
            <a:avLst/>
          </a:prstGeom>
          <a:ln w="0">
            <a:noFill/>
          </a:ln>
        </p:spPr>
      </p:pic>
      <p:pic>
        <p:nvPicPr>
          <p:cNvPr id="314" name="Audio 4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1038240" y="1012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Вишеструко резистентне грам-негативне бактер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1023840" y="1969920"/>
            <a:ext cx="783432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ног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актер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Klebsiela, Esherichia colli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уч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ет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и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Хит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ој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вчиц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астростом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јуност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уж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равак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арочи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3766-713D-4BAC-8634-6B20FF51B48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1038240" y="100980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Инфекција коју узрокује Clostridium diffic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1042920" y="2008080"/>
            <a:ext cx="7869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сa  </a:t>
            </a:r>
            <a:r>
              <a:rPr b="0" i="1" lang="en-US" sz="1800" spc="-1" strike="noStrike">
                <a:solidFill>
                  <a:srgbClr val="ffff00"/>
                </a:solidFill>
                <a:latin typeface="Cambria"/>
                <a:ea typeface="Arial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 данас најчешћи узрочник пролива стечених у 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Клиничке карактерис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лив се обично јавља 5-10 дана (распон: неколико дана до 2 месеца) након почетка антибиотске терап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тежи облик болести се назива псеудомембранозни ко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мпликације: панколитис, токсични мегаколон, перфорација и ендотоксични 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 је склона релапсима (код 15-25%, унутар 2-4 недељ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383-F092-448B-AE0F-C2F9EC2B443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Audio 2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000080" y="1085760"/>
            <a:ext cx="78343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Фактори 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екритична употреба антибиотика широког спектра, посебно беталактамских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астроинтестинални и хируршки зах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а животна доб (старији и исцрпљени болесниц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звор инфекције су болесници са клостридијалним колитисом који излучује патогене столиц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 се најчешће шири међу болесницима контактом (директним или индиректни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DC9-4CA2-4289-BB4C-3D6154A9812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Audio 2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1000080" y="1278000"/>
            <a:ext cx="779616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текција токсина на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 стол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Леч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кид антибиотске терапија која је довела до измене микрофлоре црева или променити у терапију антибиотицима који су мање повезани са колити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требно избегавати антиперисталтичке лекове (Loperam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докнада течности и електрол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Антибиотици: Метронидазол тбл. 400 mg 3x1 10-14 дана (лек првог избора) или Vankomicin орално 4x125 mg 10-14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28C-A170-4EB4-B04D-C61531B2C5B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Audio 1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rcRect l="3975" t="20027" r="39490" b="7135"/>
          <a:stretch/>
        </p:blipFill>
        <p:spPr>
          <a:xfrm>
            <a:off x="385920" y="1674720"/>
            <a:ext cx="4881240" cy="47149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"/>
          <p:cNvSpPr/>
          <p:nvPr/>
        </p:nvSpPr>
        <p:spPr>
          <a:xfrm>
            <a:off x="1172880" y="8938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Кључне стратешке мере превен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5438880" y="1803240"/>
            <a:ext cx="37051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венција инфекције (вакцинација, изолација, не радити док ерозија не зарасте, рукавице, наочаре, маск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Рана дијагноза и терапија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(надзор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елективна употреба антибио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евенција пренос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14A-8D8F-449F-BB94-9856A348B74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Audio 9" descr=""/>
          <p:cNvPicPr/>
          <p:nvPr/>
        </p:nvPicPr>
        <p:blipFill>
          <a:blip r:embed="rId2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855720"/>
            <a:ext cx="46465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раћење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85960" y="1891800"/>
            <a:ext cx="79660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ambria"/>
                <a:ea typeface="Arial"/>
              </a:rPr>
              <a:t>Свака здрваствена организација је у обавези да прати болничке инфекциј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лавни циљеви праћења болничких инфекција су следећ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ањење учесталости инфекција у болничким услов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тврђивање сопствених стопа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ткривање епиде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поређивање стопа учесталости болничких инфекција између здравствених уст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валуирање мера за контролу инфекциј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B951-FC4A-43B1-8860-CF14A2EC51A2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Audio 6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19680" y="1201680"/>
            <a:ext cx="4008240" cy="80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80D-CF08-4ACA-A671-B1D5B48541E1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D:\Users\Predrag Canovic\Desktop\intrahospitalne infekcije\8.jpg"/>
          <p:cNvPicPr/>
          <p:nvPr/>
        </p:nvPicPr>
        <p:blipFill>
          <a:blip r:embed="rId1"/>
          <a:stretch/>
        </p:blipFill>
        <p:spPr>
          <a:xfrm>
            <a:off x="270000" y="1892160"/>
            <a:ext cx="2965320" cy="1973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D:\Users\Predrag Canovic\Desktop\intrahospitalne infekcije\9.jpeg"/>
          <p:cNvPicPr/>
          <p:nvPr/>
        </p:nvPicPr>
        <p:blipFill>
          <a:blip r:embed="rId2"/>
          <a:stretch/>
        </p:blipFill>
        <p:spPr>
          <a:xfrm>
            <a:off x="-304920" y="-266760"/>
            <a:ext cx="9753840" cy="73915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1038240" y="100980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ХВАЛА НА ПАЖЊИ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33280" y="933480"/>
            <a:ext cx="43052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начај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77480" y="2084400"/>
            <a:ext cx="67978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5-1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ку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100 000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т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лучајев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одиш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иш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7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чни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ултирезистен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F2CE-81A1-48AB-AE5B-B4EF5E577F5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933480" y="4089240"/>
            <a:ext cx="2424240" cy="181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2"/>
          <a:stretch/>
        </p:blipFill>
        <p:spPr>
          <a:xfrm>
            <a:off x="5438880" y="4159080"/>
            <a:ext cx="2212920" cy="1764000"/>
          </a:xfrm>
          <a:prstGeom prst="rect">
            <a:avLst/>
          </a:prstGeom>
          <a:ln w="0">
            <a:noFill/>
          </a:ln>
        </p:spPr>
      </p:pic>
      <p:pic>
        <p:nvPicPr>
          <p:cNvPr id="320" name="Audio 2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3800" y="893880"/>
            <a:ext cx="499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оследице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22120" y="2199960"/>
            <a:ext cx="71802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бидите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е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г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це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608800" y="4311720"/>
          <a:ext cx="18208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4311720"/>
                    <a:ext cx="18208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350-E356-4F2F-9995-6BE4480A439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Audio 6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3680" y="933480"/>
            <a:ext cx="51292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ацијенти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изик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настанак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37880" y="2008080"/>
            <a:ext cx="612756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оворођенча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ц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с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уг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мунокомпромит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ронични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Р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054A-8618-4FB6-9376-D5422DF5395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385920" y="5388120"/>
            <a:ext cx="1128600" cy="125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4672080" y="5403960"/>
            <a:ext cx="1111320" cy="1224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3"/>
          <a:stretch/>
        </p:blipFill>
        <p:spPr>
          <a:xfrm>
            <a:off x="3179880" y="5416560"/>
            <a:ext cx="1209600" cy="119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4"/>
          <a:stretch/>
        </p:blipFill>
        <p:spPr>
          <a:xfrm>
            <a:off x="1797120" y="5373720"/>
            <a:ext cx="1098360" cy="1282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5"/>
          <a:stretch/>
        </p:blipFill>
        <p:spPr>
          <a:xfrm>
            <a:off x="6066000" y="5388120"/>
            <a:ext cx="1257120" cy="1255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"/>
          <p:cNvPicPr/>
          <p:nvPr/>
        </p:nvPicPr>
        <p:blipFill>
          <a:blip r:embed="rId6"/>
          <a:stretch/>
        </p:blipFill>
        <p:spPr>
          <a:xfrm>
            <a:off x="7605720" y="5388120"/>
            <a:ext cx="1095480" cy="1253880"/>
          </a:xfrm>
          <a:prstGeom prst="rect">
            <a:avLst/>
          </a:prstGeom>
          <a:ln w="0">
            <a:noFill/>
          </a:ln>
        </p:spPr>
      </p:pic>
      <p:pic>
        <p:nvPicPr>
          <p:cNvPr id="336" name="Audio 8" descr=""/>
          <p:cNvPicPr/>
          <p:nvPr/>
        </p:nvPicPr>
        <p:blipFill>
          <a:blip r:embed="rId7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31840" y="701280"/>
            <a:ext cx="24782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23480" y="1969920"/>
            <a:ext cx="638172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р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рина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еханич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ентил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зогастрич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он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Трансфуз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рентералн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с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A820-C2E6-4347-AB35-16CCE2291C1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585720" y="5173560"/>
            <a:ext cx="1144800" cy="1457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2"/>
          <a:stretch/>
        </p:blipFill>
        <p:spPr>
          <a:xfrm>
            <a:off x="3535200" y="5338800"/>
            <a:ext cx="1209960" cy="1293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2031840" y="5241960"/>
            <a:ext cx="1233720" cy="1388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4"/>
          <a:stretch/>
        </p:blipFill>
        <p:spPr>
          <a:xfrm>
            <a:off x="5016600" y="5338800"/>
            <a:ext cx="1260360" cy="1336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"/>
          <p:cNvPicPr/>
          <p:nvPr/>
        </p:nvPicPr>
        <p:blipFill>
          <a:blip r:embed="rId5"/>
          <a:stretch/>
        </p:blipFill>
        <p:spPr>
          <a:xfrm>
            <a:off x="6461280" y="5286240"/>
            <a:ext cx="1096920" cy="1322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"/>
          <p:cNvPicPr/>
          <p:nvPr/>
        </p:nvPicPr>
        <p:blipFill>
          <a:blip r:embed="rId6"/>
          <a:stretch/>
        </p:blipFill>
        <p:spPr>
          <a:xfrm>
            <a:off x="7740720" y="5276880"/>
            <a:ext cx="1184040" cy="1317600"/>
          </a:xfrm>
          <a:prstGeom prst="rect">
            <a:avLst/>
          </a:prstGeom>
          <a:ln w="0">
            <a:noFill/>
          </a:ln>
        </p:spPr>
      </p:pic>
      <p:pic>
        <p:nvPicPr>
          <p:cNvPr id="346" name="Audio 3" descr=""/>
          <p:cNvPicPr/>
          <p:nvPr/>
        </p:nvPicPr>
        <p:blipFill>
          <a:blip r:embed="rId7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5640" y="933480"/>
            <a:ext cx="3148200" cy="51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утев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37880" y="2122560"/>
            <a:ext cx="752796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м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ц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с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а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ож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е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онта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ире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директ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пљич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аздух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уте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ктор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иј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војствен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ј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реди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FC37-2075-494F-BEDA-2E37009DCD86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imp2"/>
          <p:cNvPicPr/>
          <p:nvPr/>
        </p:nvPicPr>
        <p:blipFill>
          <a:blip r:embed="rId1"/>
          <a:stretch/>
        </p:blipFill>
        <p:spPr>
          <a:xfrm rot="21022200">
            <a:off x="6515280" y="417600"/>
            <a:ext cx="2419200" cy="1555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D:\Users\Predrag Canovic\Desktop\intrahospitalne infekcije\6.jpg"/>
          <p:cNvPicPr/>
          <p:nvPr/>
        </p:nvPicPr>
        <p:blipFill>
          <a:blip r:embed="rId2"/>
          <a:stretch/>
        </p:blipFill>
        <p:spPr>
          <a:xfrm>
            <a:off x="193680" y="492588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352" name="Audio 4" descr=""/>
          <p:cNvPicPr/>
          <p:nvPr/>
        </p:nvPicPr>
        <p:blipFill>
          <a:blip r:embed="rId3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88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00"/>
                </a:solidFill>
                <a:latin typeface="Cambria"/>
              </a:rPr>
              <a:t>Бактер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Гљив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Протоз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mbria"/>
              </a:rPr>
              <a:t>Прио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3697-82C7-4E1D-AC2A-FCE43AA0237A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4432320" y="4505400"/>
            <a:ext cx="4767120" cy="3144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 rot="20511600">
            <a:off x="4701960" y="1728360"/>
            <a:ext cx="242388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8" name="Picture 2" descr=""/>
          <p:cNvPicPr/>
          <p:nvPr/>
        </p:nvPicPr>
        <p:blipFill>
          <a:blip r:embed="rId3"/>
          <a:stretch/>
        </p:blipFill>
        <p:spPr>
          <a:xfrm rot="20799000">
            <a:off x="696600" y="4551120"/>
            <a:ext cx="2108160" cy="210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Audio 2" descr=""/>
          <p:cNvPicPr/>
          <p:nvPr/>
        </p:nvPicPr>
        <p:blipFill>
          <a:blip r:embed="rId4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Најважнији бактеријски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638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Грам пози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taphylococcus aur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nterococcus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oagulaza  negativan Staphylococ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Грам</a:t>
            </a:r>
            <a:r>
              <a:rPr b="0" lang="sr-RS" sz="2000" spc="-1" strike="noStrike">
                <a:solidFill>
                  <a:srgbClr val="ffff00"/>
                </a:solidFill>
                <a:latin typeface="Comic Sans MS"/>
              </a:rPr>
              <a:t> нега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cherichia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Pseudomonas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Klebsiel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Serrati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Acinetobacter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3FA-3BEE-4EAE-B1C0-D34DB0D69BEF}" type="slidenum">
              <a:rPr b="0" lang="en-US" sz="1000" spc="-1" strike="noStrike">
                <a:solidFill>
                  <a:srgbClr val="9b9a98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Audio 15" descr=""/>
          <p:cNvPicPr/>
          <p:nvPr/>
        </p:nvPicPr>
        <p:blipFill>
          <a:blip r:embed="rId1"/>
          <a:stretch/>
        </p:blipFill>
        <p:spPr>
          <a:xfrm>
            <a:off x="8583480" y="629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46:03Z</dcterms:created>
  <dc:creator>Dragan Adamovic</dc:creator>
  <dc:description/>
  <dc:language>en-US</dc:language>
  <cp:lastModifiedBy>Milan Milojevic</cp:lastModifiedBy>
  <dcterms:modified xsi:type="dcterms:W3CDTF">2023-09-18T13:13:20Z</dcterms:modified>
  <cp:revision>237</cp:revision>
  <dc:subject/>
  <dc:title>Slide 1</dc:title>
</cp:coreProperties>
</file>