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37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9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0BF7-F138-4D7B-BD25-720D5B7B4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FD4F-AE83-4C22-A286-C64D3D12D0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B96A-F283-440E-9BE7-DB5E3263FA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0309-C744-4AA3-981B-6ED9F5F6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DB6-AFB5-4D4A-86F5-6DAB2940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627E-BCB5-4C0C-B5ED-A55C9B5E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64C-E61A-49B5-97AB-E8E6190F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EC61-EBD5-4F7B-8F1F-970D7BA4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9538-39BB-4278-9E17-A6BE2AEB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C8C7-62EF-4D78-A8BE-A615E688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CDB9-4777-4AB6-92B2-46C18D3A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2959-853F-4B06-A52E-A7B2AD7C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5E9C-BFA7-40A6-A180-55402D10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DF2C-82F6-4839-A8AC-94A9B2E3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1E01-4088-4BC7-AA59-283FC7BF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9B5B-0308-4554-91BF-E420B88A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7032-155B-4953-AF65-A63D60AF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8ED2-6820-4651-84C0-F52ED967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8BDD-6EE0-4BCD-840F-9F17F36B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B5F5-6C81-4D47-B629-B8A6FF59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373AD-1B0E-464E-8B93-8234B344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5B0A5-8855-4D94-B04A-3DBF02F6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1C4D7-BE8F-411E-9C08-26BA37D1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50C20-6200-4C71-8F3A-06B147D8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D8B35-C3F9-4540-B466-C5FC91B5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0395-F35A-40BE-B907-9A7CAA12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22FA9-E3CA-43CF-8CC3-0D5B386F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4D043-EA50-44A8-881D-B29D7726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94FD0-FFC5-43A0-8F25-7D4D0389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CF53D-2C45-482D-B611-23A40A2B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B30E1-C167-43F5-8195-0507E848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2F56D-27B7-4F4C-8CE4-916C496F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FFCF9-FB7C-405C-876A-9C7C4D46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98541-960E-47BE-A399-7EF0BA2D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802A0-B6B9-47A3-88CB-A41FF262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A7A08-483D-4788-829A-918B8D38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B0C0-D4F1-4270-898A-B000549E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DE874-0487-4AA7-BBF8-254077C1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7D4BA-FFAF-4462-856E-4557001D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A23A1-D0CA-4510-A16E-B3978ED4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2074B-3E7C-42F2-A949-B58BF3FF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09E14-20EB-4BCF-BAF6-0A985DCF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93781-8F7E-4BC5-BB50-57444FC4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E0BAA-FD68-439B-AB68-59A7E6BE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F9171-424E-4826-92EF-787395F0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4B40E-350F-4780-ADDF-4F933536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D8732-6959-42D6-A5D6-DDB2FF66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C892-33DD-4095-BDEE-75FF4C1D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4A577-0D22-491A-BEB3-3A34739C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A3AEE-8267-4062-BB33-64B16312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9907A-F835-46D8-95B2-E900C246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CCD3E-53A8-446A-8E77-3570E155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14910-4922-4BB4-95DC-8C06272B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18BF1-1450-4747-836E-60A5142F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AD506-9EEC-40CF-9B73-751C6067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B7BE9-DED7-47A1-A774-FD0836B1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81BAF-D0B7-48B2-8D92-CA205B02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F7DE4-86DE-48D5-B133-AB469F2A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38B0-8738-493E-AF4D-13A90AC0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1B17A-A869-4C36-AE42-9DE8E184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C06EC-0D13-4568-B894-94948634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0711C-ED26-4A92-BAC3-0757C094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7D7FD-9E8B-41C0-80C2-21FC7D6B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201FD-3F95-4902-B6F8-E6687E1E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E51A6-E807-4855-9DD1-D96F2539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C8117-36A4-4692-A839-8E48EA8E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39A33-7872-4D7A-8C21-AE7AE752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3FF35-F69B-443C-87FA-D595B03C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DB0A2-AC26-4CFC-BBEA-C130C07C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530-8ACB-4E38-93B6-EE8B5BF2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0C4B8-6939-448D-A604-8891BEF6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8A6C7-BB5E-45F9-BFE9-63EAA8A3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86304-FFEE-47DE-A3B9-C2218F25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ABC-49E1-417D-8D65-F13609E5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9D7-4B40-4AE0-87B6-460FBE53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426B-0770-465E-876B-8605C109E3D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B5AF-91CF-4881-AF80-473365B6E86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4299-C534-440F-8DE4-BFD40909999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A7D5-930D-415A-BC0E-BED8AEB0858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98F5-ECEE-4FF2-83BF-B82EA73D9EA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1789-4527-46A2-9860-69C53838280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~Инфективне болести~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Инфекције у трудноћи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Picture Placeholder 4" descr="glavna beba.jpg"/>
          <p:cNvPicPr/>
          <p:nvPr/>
        </p:nvPicPr>
        <p:blipFill>
          <a:blip r:embed="rId1"/>
          <a:stretch/>
        </p:blipFill>
        <p:spPr>
          <a:xfrm>
            <a:off x="4602240" y="1328760"/>
            <a:ext cx="4206960" cy="54435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191120" y="5715000"/>
            <a:ext cx="4419360" cy="53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Проф. др Биљана Поповска Јовичић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Audio 1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Дијагностика интраутериних инфекција (пренатална и постнатална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a0b0"/>
                </a:solidFill>
                <a:latin typeface="Cambria"/>
              </a:rPr>
              <a:t>Лабораторијска дијагности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1640" y="1752120"/>
            <a:ext cx="4041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6ea0b0"/>
                </a:solidFill>
                <a:latin typeface="Cambria"/>
              </a:rPr>
              <a:t>Методе које се користе у пренаталној дијагностиц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304776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Изолација на култури тк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Бактериолошке анализе (културе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Серолошке методе (ЕLISA, доказивање A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Реакција ланчане полимеризације (PC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4720" y="3200040"/>
            <a:ext cx="4041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Амниоцeнте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ордоцeнте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Биопсија хорионских чуп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Методе које се користе у пренаталној дијагностиц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5562720"/>
            <a:ext cx="40402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mbria"/>
              </a:rPr>
              <a:t>Амниоцeнт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44720" y="5562720"/>
            <a:ext cx="40417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mbria"/>
              </a:rPr>
              <a:t>Кордоцeнт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Content Placeholder 8" descr="amniocinteza.jpg"/>
          <p:cNvPicPr/>
          <p:nvPr/>
        </p:nvPicPr>
        <p:blipFill>
          <a:blip r:embed="rId1"/>
          <a:stretch/>
        </p:blipFill>
        <p:spPr>
          <a:xfrm>
            <a:off x="609480" y="1727280"/>
            <a:ext cx="3888000" cy="3666960"/>
          </a:xfrm>
          <a:prstGeom prst="rect">
            <a:avLst/>
          </a:prstGeom>
          <a:ln w="0">
            <a:noFill/>
          </a:ln>
        </p:spPr>
      </p:pic>
      <p:pic>
        <p:nvPicPr>
          <p:cNvPr id="301" name="Content Placeholder 9" descr="kordocinteza.jpg"/>
          <p:cNvPicPr/>
          <p:nvPr/>
        </p:nvPicPr>
        <p:blipFill>
          <a:blip r:embed="rId2"/>
          <a:stretch/>
        </p:blipFill>
        <p:spPr>
          <a:xfrm>
            <a:off x="4641840" y="1752480"/>
            <a:ext cx="4265640" cy="3657600"/>
          </a:xfrm>
          <a:prstGeom prst="rect">
            <a:avLst/>
          </a:prstGeom>
          <a:ln w="0">
            <a:noFill/>
          </a:ln>
        </p:spPr>
      </p:pic>
      <p:pic>
        <p:nvPicPr>
          <p:cNvPr id="302" name="Audio 14" descr=""/>
          <p:cNvPicPr/>
          <p:nvPr/>
        </p:nvPicPr>
        <p:blipFill>
          <a:blip r:embed="rId3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Вирусне инфекције у трудноћи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ub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28600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Rubella virus припада Togavirid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Хематогено-трансплацентар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Инфекција серонегативне трудниц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Асимптоматска или блага болест трудниц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Content Placeholder 7" descr=""/>
          <p:cNvPicPr/>
          <p:nvPr/>
        </p:nvPicPr>
        <p:blipFill>
          <a:blip r:embed="rId1"/>
          <a:stretch/>
        </p:blipFill>
        <p:spPr>
          <a:xfrm>
            <a:off x="4645080" y="1517760"/>
            <a:ext cx="4498920" cy="4578120"/>
          </a:xfrm>
          <a:prstGeom prst="rect">
            <a:avLst/>
          </a:prstGeom>
          <a:ln w="0">
            <a:noFill/>
          </a:ln>
        </p:spPr>
      </p:pic>
      <p:pic>
        <p:nvPicPr>
          <p:cNvPr id="307" name="Audio 4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Знакови конгениталне рубеле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9" name="Content Placeholder 3" descr=""/>
          <p:cNvPicPr/>
          <p:nvPr/>
        </p:nvPicPr>
        <p:blipFill>
          <a:blip r:embed="rId1"/>
          <a:stretch/>
        </p:blipFill>
        <p:spPr>
          <a:xfrm>
            <a:off x="-171360" y="1371600"/>
            <a:ext cx="8797680" cy="5108400"/>
          </a:xfrm>
          <a:prstGeom prst="rect">
            <a:avLst/>
          </a:prstGeom>
          <a:ln w="0">
            <a:noFill/>
          </a:ln>
        </p:spPr>
      </p:pic>
      <p:pic>
        <p:nvPicPr>
          <p:cNvPr id="310" name="Audio 2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Конгенитални Рубела синдром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2" name="Content Placeholder 3" descr="rubelasindrom.jpg"/>
          <p:cNvPicPr/>
          <p:nvPr/>
        </p:nvPicPr>
        <p:blipFill>
          <a:blip r:embed="rId1"/>
          <a:stretch/>
        </p:blipFill>
        <p:spPr>
          <a:xfrm>
            <a:off x="1092240" y="1447920"/>
            <a:ext cx="6680160" cy="5014800"/>
          </a:xfrm>
          <a:prstGeom prst="rect">
            <a:avLst/>
          </a:prstGeom>
          <a:ln w="0">
            <a:noFill/>
          </a:ln>
        </p:spPr>
      </p:pic>
      <p:pic>
        <p:nvPicPr>
          <p:cNvPr id="313" name="Audio 7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Дијагностикa и лечење Рубеле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9047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Изолација вируса –амнионска течност, назофаринкс, урин, цереброспинална течнос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Серолошка дијагностика- ЕLISA, доказивање IgM антитела, или четворуструки пораст  IgG антите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Реакција ланчане полимеризације PC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Методе-кордоцeнтеза, биопсија хорионских чуп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Лечење је симптоматск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Превенција- жива атенуисана вакцина ММ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Audio 15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Cytomegalovirosi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14264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DNK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ирус, припада породиц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i="1" lang="sr-Latn-RS" sz="2000" spc="-1" strike="noStrike">
                <a:solidFill>
                  <a:srgbClr val="ffffff"/>
                </a:solidFill>
                <a:latin typeface="Cambria"/>
              </a:rPr>
              <a:t>Herpesvirid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нфекција мајке може би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имарна инфекција (30-50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еинфекција (1-2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утеви ширења инфекциј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ambria"/>
              </a:rPr>
              <a:t>Т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ансплацетал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ambria"/>
              </a:rPr>
              <a:t>Т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ком порођа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Дојењ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Cambria"/>
              </a:rPr>
              <a:t>Екскреција вируса код заражене новорођенчади може трајати месецима, па и годинама, а вирус се може изоловати из урина, крви, суза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7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Audio 1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Cytomegalovirosi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638320" y="502920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ea0b0"/>
                </a:solidFill>
                <a:latin typeface="Arial"/>
              </a:rPr>
              <a:t>CMV placent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517400"/>
            <a:ext cx="419076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MV инфекц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имптоматска 10%    Асимптоматска 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7%                              5-15%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Трајне секвеле               Оштећење слух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Content Placeholder 19" descr="300px-CMV_placentitis1_mini.jpg"/>
          <p:cNvPicPr/>
          <p:nvPr/>
        </p:nvPicPr>
        <p:blipFill>
          <a:blip r:embed="rId1"/>
          <a:stretch/>
        </p:blipFill>
        <p:spPr>
          <a:xfrm>
            <a:off x="4724280" y="2116080"/>
            <a:ext cx="3846600" cy="2718000"/>
          </a:xfrm>
          <a:prstGeom prst="rect">
            <a:avLst/>
          </a:prstGeom>
          <a:ln w="0">
            <a:noFill/>
          </a:ln>
        </p:spPr>
      </p:pic>
      <p:cxnSp>
        <p:nvCxnSpPr>
          <p:cNvPr id="324" name="Straight Arrow Connector 7"/>
          <p:cNvCxnSpPr/>
          <p:nvPr/>
        </p:nvCxnSpPr>
        <p:spPr>
          <a:xfrm flipH="1">
            <a:off x="1066320" y="2362320"/>
            <a:ext cx="1067760" cy="9151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25" name="Straight Arrow Connector 10"/>
          <p:cNvCxnSpPr/>
          <p:nvPr/>
        </p:nvCxnSpPr>
        <p:spPr>
          <a:xfrm>
            <a:off x="2209680" y="2362320"/>
            <a:ext cx="915120" cy="9151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26" name="Straight Arrow Connector 12"/>
          <p:cNvCxnSpPr/>
          <p:nvPr/>
        </p:nvCxnSpPr>
        <p:spPr>
          <a:xfrm flipH="1">
            <a:off x="1216800" y="3506760"/>
            <a:ext cx="3960" cy="83880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27" name="Straight Arrow Connector 14"/>
          <p:cNvCxnSpPr/>
          <p:nvPr/>
        </p:nvCxnSpPr>
        <p:spPr>
          <a:xfrm flipH="1">
            <a:off x="3198600" y="3506400"/>
            <a:ext cx="3600" cy="76284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pic>
        <p:nvPicPr>
          <p:cNvPr id="328" name="Audio 11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0" name="Content Placeholder 3" descr=""/>
          <p:cNvPicPr/>
          <p:nvPr/>
        </p:nvPicPr>
        <p:blipFill>
          <a:blip r:embed="rId1"/>
          <a:stretch/>
        </p:blipFill>
        <p:spPr>
          <a:xfrm>
            <a:off x="225360" y="1603440"/>
            <a:ext cx="8613720" cy="4522680"/>
          </a:xfrm>
          <a:prstGeom prst="rect">
            <a:avLst/>
          </a:prstGeom>
          <a:ln w="0">
            <a:noFill/>
          </a:ln>
        </p:spPr>
      </p:pic>
      <p:sp>
        <p:nvSpPr>
          <p:cNvPr id="331" name="Title 15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Verdana"/>
                <a:ea typeface="Verdana"/>
              </a:rPr>
              <a:t>Cytomegalovi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Audio 6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Дијагностика CMV инфекције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0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Лабораторијска дијагности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Изолација вируса (амнионска течност, крв, ликвор, урин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Реакција ланчане полимеризације (PC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Серолошке анализе (ЕLISA, IgM антитела, или четворостуки пораст Ig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Патохистолошки налаз- инклузиона телашц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Методе у пренаталној дијагности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Audio 10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Инфекције у трудноћ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Tahoma"/>
              </a:rPr>
              <a:t>Инфекција у трудноћи, без обзира на етиолошки узрочник, може представљати опасност за ток трудноће и пл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Инфекција плода може наста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  <a:ea typeface="Tahoma"/>
              </a:rPr>
              <a:t>У току трудноће (пренатална, интраутерина или конгенитална инфекциј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  <a:ea typeface="Tahoma"/>
              </a:rPr>
              <a:t>За време порођаја (перинатална инфекциј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  <a:ea typeface="Tahoma"/>
              </a:rPr>
              <a:t>После порођаја (постнатална инфекциј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Content Placeholder 4" descr="beba 2.jpg"/>
          <p:cNvPicPr/>
          <p:nvPr/>
        </p:nvPicPr>
        <p:blipFill>
          <a:blip r:embed="rId1"/>
          <a:stretch/>
        </p:blipFill>
        <p:spPr>
          <a:xfrm>
            <a:off x="6095880" y="2590920"/>
            <a:ext cx="2276640" cy="2009520"/>
          </a:xfrm>
          <a:prstGeom prst="rect">
            <a:avLst/>
          </a:prstGeom>
          <a:ln w="0">
            <a:noFill/>
          </a:ln>
        </p:spPr>
      </p:pic>
      <p:pic>
        <p:nvPicPr>
          <p:cNvPr id="268" name="Audio 3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Лечење и превенциј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59984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Терапија-симптомат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од новорођенчади са постојањем симптоматске инфекције на рођењу антивирусна терапија (Ganciklovir) може имати повољан ефекат на даљи исх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Превенција код трудница- лична хигијена, прање руку водом и сапуном, избегавање дељења хране, пића са малом децом (контакт са саливо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Content Placeholder 4" descr="beba 1.jpg"/>
          <p:cNvPicPr/>
          <p:nvPr/>
        </p:nvPicPr>
        <p:blipFill>
          <a:blip r:embed="rId1"/>
          <a:stretch/>
        </p:blipFill>
        <p:spPr>
          <a:xfrm>
            <a:off x="6400800" y="236232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339" name="Audio 6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Инфекција херпес вирусим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SV-1, HSV-2 припадају породици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erpesvirid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SV-2 далеко чешћи изазивач инфекције (90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Инфекција настаје проласком кроз инфицирани порођајни канал мај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Arial"/>
              </a:rPr>
              <a:t>Неонатална херпес инфе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Content Placeholder 7" descr="hsv elektonsk.jpg"/>
          <p:cNvPicPr/>
          <p:nvPr/>
        </p:nvPicPr>
        <p:blipFill>
          <a:blip r:embed="rId1"/>
          <a:stretch/>
        </p:blipFill>
        <p:spPr>
          <a:xfrm>
            <a:off x="6400800" y="1600200"/>
            <a:ext cx="1905120" cy="4191120"/>
          </a:xfrm>
          <a:prstGeom prst="rect">
            <a:avLst/>
          </a:prstGeom>
          <a:ln w="0">
            <a:noFill/>
          </a:ln>
        </p:spPr>
      </p:pic>
      <p:pic>
        <p:nvPicPr>
          <p:cNvPr id="343" name="Audio 11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Неонатална херпес инфекциј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a0b0"/>
                </a:solidFill>
                <a:latin typeface="Cambria"/>
              </a:rPr>
              <a:t>Смртност код нелечене дисеминоване инфекције износи 85%, а трајне секвеле 5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Content Placeholder 5" descr=""/>
          <p:cNvPicPr/>
          <p:nvPr/>
        </p:nvPicPr>
        <p:blipFill>
          <a:blip r:embed="rId1"/>
          <a:stretch/>
        </p:blipFill>
        <p:spPr>
          <a:xfrm>
            <a:off x="0" y="1517760"/>
            <a:ext cx="4191120" cy="39416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114800" y="1517400"/>
            <a:ext cx="5029200" cy="50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Неонатална HSV инфек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Локализована                  Дисеминова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Cambria"/>
              </a:rPr>
              <a:t>О</a:t>
            </a: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чи                                                  Иктеру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Усна дупља                                  Хепатоспленомегалиј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Кожа                                               Хеморагична дијатез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Енцефалит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8" name="Straight Arrow Connector 10"/>
          <p:cNvCxnSpPr/>
          <p:nvPr/>
        </p:nvCxnSpPr>
        <p:spPr>
          <a:xfrm flipH="1">
            <a:off x="4800240" y="1981080"/>
            <a:ext cx="1296000" cy="6105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49" name="Straight Arrow Connector 12"/>
          <p:cNvCxnSpPr/>
          <p:nvPr/>
        </p:nvCxnSpPr>
        <p:spPr>
          <a:xfrm>
            <a:off x="6171840" y="1981080"/>
            <a:ext cx="1067400" cy="6105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pic>
        <p:nvPicPr>
          <p:cNvPr id="350" name="Audio 9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Конгенитална херпес инфекциј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Изазивачи HSV-1 и HSV-2, доминантно код примо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Веома ретка за разлику од неонаталне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Трансплацентар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Могући исход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Cambria"/>
              </a:rPr>
              <a:t>З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астој у рас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Превремени порођа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Побача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Порођај мртворођенч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онгениталне малформа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6672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Конгениталне малформ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Ин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тракранијалне калцифика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Микроцефал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Микроофталм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Ментална ретарда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Дисплазија рети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6ea0b0"/>
                </a:solidFill>
                <a:latin typeface="Arial"/>
              </a:rPr>
              <a:t>Везикулозне промене на кожи код  дисеминоване </a:t>
            </a:r>
            <a:r>
              <a:rPr b="1" lang="sr-Latn-RS" sz="2000" spc="-1" strike="noStrike">
                <a:solidFill>
                  <a:srgbClr val="6ea0b0"/>
                </a:solidFill>
                <a:latin typeface="Arial"/>
              </a:rPr>
              <a:t>HSV</a:t>
            </a:r>
            <a:r>
              <a:rPr b="1" lang="sr-RS" sz="2000" spc="-1" strike="noStrike">
                <a:solidFill>
                  <a:srgbClr val="6ea0b0"/>
                </a:solidFill>
                <a:latin typeface="Arial"/>
              </a:rPr>
              <a:t>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44720" y="5486400"/>
            <a:ext cx="44989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6ea0b0"/>
                </a:solidFill>
                <a:latin typeface="Arial"/>
              </a:rPr>
              <a:t>Јетра код дисеминоване </a:t>
            </a:r>
            <a:r>
              <a:rPr b="1" lang="sr-Latn-RS" sz="2000" spc="-1" strike="noStrike">
                <a:solidFill>
                  <a:srgbClr val="6ea0b0"/>
                </a:solidFill>
                <a:latin typeface="Arial"/>
              </a:rPr>
              <a:t>HSV</a:t>
            </a:r>
            <a:r>
              <a:rPr b="1" lang="sr-RS" sz="2000" spc="-1" strike="noStrike">
                <a:solidFill>
                  <a:srgbClr val="6ea0b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6ea0b0"/>
                </a:solidFill>
                <a:latin typeface="Cambria"/>
              </a:rPr>
              <a:t>инфекције</a:t>
            </a:r>
            <a:r>
              <a:rPr b="1" lang="sr-RS" sz="2000" spc="-1" strike="noStrike">
                <a:solidFill>
                  <a:srgbClr val="6ea0b0"/>
                </a:solidFill>
                <a:latin typeface="Arial"/>
              </a:rPr>
              <a:t> и хистолошки  нала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Content Placeholder 8" descr="ninr472408.fig1.jpg"/>
          <p:cNvPicPr/>
          <p:nvPr/>
        </p:nvPicPr>
        <p:blipFill>
          <a:blip r:embed="rId1"/>
          <a:stretch/>
        </p:blipFill>
        <p:spPr>
          <a:xfrm>
            <a:off x="420840" y="1523880"/>
            <a:ext cx="4197240" cy="3380040"/>
          </a:xfrm>
          <a:prstGeom prst="rect">
            <a:avLst/>
          </a:prstGeom>
          <a:ln w="0">
            <a:noFill/>
          </a:ln>
        </p:spPr>
      </p:pic>
      <p:pic>
        <p:nvPicPr>
          <p:cNvPr id="358" name="Content Placeholder 9" descr="jetra hsv.jpg"/>
          <p:cNvPicPr/>
          <p:nvPr/>
        </p:nvPicPr>
        <p:blipFill>
          <a:blip r:embed="rId2"/>
          <a:stretch/>
        </p:blipFill>
        <p:spPr>
          <a:xfrm>
            <a:off x="5011560" y="765000"/>
            <a:ext cx="3446640" cy="4624560"/>
          </a:xfrm>
          <a:prstGeom prst="rect">
            <a:avLst/>
          </a:prstGeom>
          <a:ln w="0">
            <a:noFill/>
          </a:ln>
        </p:spPr>
      </p:pic>
      <p:pic>
        <p:nvPicPr>
          <p:cNvPr id="359" name="Audio 5" descr=""/>
          <p:cNvPicPr/>
          <p:nvPr/>
        </p:nvPicPr>
        <p:blipFill>
          <a:blip r:embed="rId3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57913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2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NMR  код  здраве новорођенчеди (лево) и код новорођенчеди са HSV енцефалитисом  (десно) у склопу  дисеминоване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Content Placeholder 3" descr="hsv encefalitis.jpg"/>
          <p:cNvPicPr/>
          <p:nvPr/>
        </p:nvPicPr>
        <p:blipFill>
          <a:blip r:embed="rId1"/>
          <a:stretch/>
        </p:blipFill>
        <p:spPr>
          <a:xfrm>
            <a:off x="822240" y="1219320"/>
            <a:ext cx="6950160" cy="4529160"/>
          </a:xfrm>
          <a:prstGeom prst="rect">
            <a:avLst/>
          </a:prstGeom>
          <a:ln w="0">
            <a:noFill/>
          </a:ln>
        </p:spPr>
      </p:pic>
      <p:pic>
        <p:nvPicPr>
          <p:cNvPr id="362" name="Audio 3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Дијагноза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Физикални нала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золација вируса (брис ждрела, аспират трахеје, брис ока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еакција ланчане полимеризације (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PCR)-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ликвор,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рв, мукокутане лезије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Директна имунофлоресцен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Серолошке анализе (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ELIS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Cambria"/>
              </a:rPr>
              <a:t>Методе у пренаталној дијагностиц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Audio 9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Лечење херпес инфекција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28600" y="1447560"/>
            <a:ext cx="76960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Лечење дисеминоване HSV инфекције Aciklovirom, 20mg/kg, на 8 сати, интравенским путем, најмање 14-21 д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Превен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Лечити Аciklovirom симптоматску  HSV инфекцију код труд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Царски рез код примарне или рекурентне инфекције са свежим везикулозним лезиј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Audio 5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Varicella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19320"/>
            <a:ext cx="58672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азивач 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aricella -  Zoster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ирус припада фамилији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rpesvirid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расплацетарни-хематоге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ронегативне трудниц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У првих 16. недеља трудноће тешке секвел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ambria"/>
              </a:rPr>
              <a:t>Х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ипоплазија или аплазија уд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Микроцефал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Хидроцефалу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Ментална ретарда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Атрофија  </a:t>
            </a:r>
            <a:r>
              <a:rPr b="0" i="1" lang="en-US" sz="2000" spc="-1" strike="noStrike">
                <a:solidFill>
                  <a:srgbClr val="ffffff"/>
                </a:solidFill>
                <a:latin typeface="Cambria"/>
              </a:rPr>
              <a:t>n.opti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Content Placeholder 6" descr="varicella-zoster-virus-infections-40-638.jpg"/>
          <p:cNvPicPr/>
          <p:nvPr/>
        </p:nvPicPr>
        <p:blipFill>
          <a:blip r:embed="rId1"/>
          <a:stretch/>
        </p:blipFill>
        <p:spPr>
          <a:xfrm>
            <a:off x="5537160" y="2666880"/>
            <a:ext cx="3352680" cy="2517840"/>
          </a:xfrm>
          <a:prstGeom prst="rect">
            <a:avLst/>
          </a:prstGeom>
          <a:ln w="0">
            <a:noFill/>
          </a:ln>
        </p:spPr>
      </p:pic>
      <p:pic>
        <p:nvPicPr>
          <p:cNvPr id="372" name="Audio 6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0520" y="1219320"/>
            <a:ext cx="5715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Посебан проблем представља неонатална VZV инфе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Настаје ако мајка оболи 5 дана пре или 2 дана након порођа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Дисеминована инфекција, захвата кожу, очи, плућа, јетру и C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Дијагноза- пренатална дијагностика, изолација вируса, PCR, антитела на VZ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Aciklovir 10-15 mg/kg i.v 8 сати 10 д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Content Placeholder 8" descr="cihen pox.png"/>
          <p:cNvPicPr/>
          <p:nvPr/>
        </p:nvPicPr>
        <p:blipFill>
          <a:blip r:embed="rId1"/>
          <a:stretch/>
        </p:blipFill>
        <p:spPr>
          <a:xfrm>
            <a:off x="6019920" y="2743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75" name="Audio 2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Путеви ширења инфекције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0" name="Content Placeholder 4" descr=""/>
          <p:cNvPicPr/>
          <p:nvPr/>
        </p:nvPicPr>
        <p:blipFill>
          <a:blip r:embed="rId1"/>
          <a:stretch/>
        </p:blipFill>
        <p:spPr>
          <a:xfrm>
            <a:off x="450720" y="1974960"/>
            <a:ext cx="7108920" cy="3828960"/>
          </a:xfrm>
          <a:prstGeom prst="rect">
            <a:avLst/>
          </a:prstGeom>
          <a:ln w="0">
            <a:noFill/>
          </a:ln>
        </p:spPr>
      </p:pic>
      <p:pic>
        <p:nvPicPr>
          <p:cNvPr id="271" name="Audio 3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Паразитарне инфекције у трудноћ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752480"/>
            <a:ext cx="5410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ТОXOPLA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Узрочник- Протозоа, </a:t>
            </a:r>
            <a:r>
              <a:rPr b="0" i="1" lang="en-US" sz="2000" spc="-1" strike="noStrike">
                <a:solidFill>
                  <a:srgbClr val="ffff00"/>
                </a:solidFill>
                <a:latin typeface="Cambria"/>
              </a:rPr>
              <a:t>Toxoplasma gond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Феко-орална инфе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Серонегативне труднице, инфекција настаје током примо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Инфекција мајке уобичајено блага болес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Трансплацантар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Хематогено ширење тахизои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Content Placeholder 4" descr="toxo yivot.jpg"/>
          <p:cNvPicPr/>
          <p:nvPr/>
        </p:nvPicPr>
        <p:blipFill>
          <a:blip r:embed="rId1"/>
          <a:stretch/>
        </p:blipFill>
        <p:spPr>
          <a:xfrm>
            <a:off x="5791320" y="2590920"/>
            <a:ext cx="3076560" cy="3076560"/>
          </a:xfrm>
          <a:prstGeom prst="rect">
            <a:avLst/>
          </a:prstGeom>
          <a:ln w="0">
            <a:noFill/>
          </a:ln>
        </p:spPr>
      </p:pic>
      <p:pic>
        <p:nvPicPr>
          <p:cNvPr id="379" name="Audio 4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Животни циклус 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Тoxoplasme gondii и морфолошки облиц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1" name="Content Placeholder 3" descr="toxoplasmosis life cycle includes cat and pregnant woman.jpg"/>
          <p:cNvPicPr/>
          <p:nvPr/>
        </p:nvPicPr>
        <p:blipFill>
          <a:blip r:embed="rId1"/>
          <a:stretch/>
        </p:blipFill>
        <p:spPr>
          <a:xfrm>
            <a:off x="139680" y="2057400"/>
            <a:ext cx="4076640" cy="3429000"/>
          </a:xfrm>
          <a:prstGeom prst="rect">
            <a:avLst/>
          </a:prstGeom>
          <a:ln w="0">
            <a:noFill/>
          </a:ln>
        </p:spPr>
      </p:pic>
      <p:pic>
        <p:nvPicPr>
          <p:cNvPr id="382" name="Content Placeholder 5" descr="morfologija toxo.jpg"/>
          <p:cNvPicPr/>
          <p:nvPr/>
        </p:nvPicPr>
        <p:blipFill>
          <a:blip r:embed="rId2"/>
          <a:stretch/>
        </p:blipFill>
        <p:spPr>
          <a:xfrm>
            <a:off x="4343400" y="2057400"/>
            <a:ext cx="4567320" cy="3429000"/>
          </a:xfrm>
          <a:prstGeom prst="rect">
            <a:avLst/>
          </a:prstGeom>
          <a:ln w="0">
            <a:noFill/>
          </a:ln>
        </p:spPr>
      </p:pic>
      <p:sp>
        <p:nvSpPr>
          <p:cNvPr id="383" name="Text Placeholder 4"/>
          <p:cNvSpPr/>
          <p:nvPr/>
        </p:nvSpPr>
        <p:spPr>
          <a:xfrm>
            <a:off x="0" y="5867280"/>
            <a:ext cx="472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mbria"/>
              </a:rPr>
              <a:t>Живорни циклус Toxoplasme gond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Placeholder 4"/>
          <p:cNvSpPr/>
          <p:nvPr/>
        </p:nvSpPr>
        <p:spPr>
          <a:xfrm>
            <a:off x="4343400" y="5943600"/>
            <a:ext cx="480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Cambria"/>
              </a:rPr>
              <a:t>Морфолошки облици 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Toxoplasme gond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Audio 2" descr=""/>
          <p:cNvPicPr/>
          <p:nvPr/>
        </p:nvPicPr>
        <p:blipFill>
          <a:blip r:embed="rId3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Клиничке манифестације Токсоплазмозе у трудноћи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7486920" cy="4535640"/>
          </a:xfrm>
          <a:prstGeom prst="rect">
            <a:avLst/>
          </a:prstGeom>
          <a:ln w="0">
            <a:noFill/>
          </a:ln>
        </p:spPr>
      </p:pic>
      <p:pic>
        <p:nvPicPr>
          <p:cNvPr id="388" name="Audio 7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Дијагноз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Реакција ланчане полимеризације (PCR DN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Серолошке анализе: ЕLISA (IgM, или четвороструки пораст Ig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Изолација паразита путем биолошког огледа инокулацијом амнионске течности у миш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Методе пренаталне дијагностике (амниоцeнтеза, кордоцeнтез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Content Placeholder 8" descr="toxoplasma.jpg"/>
          <p:cNvPicPr/>
          <p:nvPr/>
        </p:nvPicPr>
        <p:blipFill>
          <a:blip r:embed="rId1"/>
          <a:stretch/>
        </p:blipFill>
        <p:spPr>
          <a:xfrm>
            <a:off x="5410080" y="1752480"/>
            <a:ext cx="3581640" cy="20242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D:\intrauterine predavanje Bilja\toxoplasma-gondii-ELEKTRONIC.jpg"/>
          <p:cNvPicPr/>
          <p:nvPr/>
        </p:nvPicPr>
        <p:blipFill>
          <a:blip r:embed="rId2"/>
          <a:stretch/>
        </p:blipFill>
        <p:spPr>
          <a:xfrm>
            <a:off x="5334120" y="4105440"/>
            <a:ext cx="3657600" cy="2109600"/>
          </a:xfrm>
          <a:prstGeom prst="rect">
            <a:avLst/>
          </a:prstGeom>
          <a:ln w="0">
            <a:noFill/>
          </a:ln>
        </p:spPr>
      </p:pic>
      <p:pic>
        <p:nvPicPr>
          <p:cNvPr id="393" name="Audio 2" descr=""/>
          <p:cNvPicPr/>
          <p:nvPr/>
        </p:nvPicPr>
        <p:blipFill>
          <a:blip r:embed="rId3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Терапиј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2057400"/>
            <a:ext cx="70102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онгенитална токсоплазмоза- комбинована терапија: Pirimetamin 0,5-1mg/kg и Sulfadiazin (100mg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Cambria"/>
              </a:rPr>
              <a:t>Додатак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фолне кисели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Лечење је интермитентно и траје годину д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ортикостероидна терапија: код прогресивног енцефалитиса и хориоретинити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од субклиничких форми и акутне инфекције трудница- Spiramicin у трајању од 30 д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Audio 4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Превенција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752120"/>
            <a:ext cx="5181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Спровођење мера личне хигије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Избегавати контакт са мачкама, посебно њиховим излучевинама током трудноћ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Обавезно прање руку након рада у баш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Темељно прање воћа и поврћ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Добра термичка обрада ме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Не конзумирати воду чији квалитет није провер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Content Placeholder 5" descr="toxo ilustracija.jpg"/>
          <p:cNvPicPr/>
          <p:nvPr/>
        </p:nvPicPr>
        <p:blipFill>
          <a:blip r:embed="rId1"/>
          <a:stretch/>
        </p:blipFill>
        <p:spPr>
          <a:xfrm>
            <a:off x="5867280" y="533520"/>
            <a:ext cx="2568600" cy="1923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D:\intrauterine predavanje Bilja\prevencija toxo.jpg"/>
          <p:cNvPicPr/>
          <p:nvPr/>
        </p:nvPicPr>
        <p:blipFill>
          <a:blip r:embed="rId2"/>
          <a:stretch/>
        </p:blipFill>
        <p:spPr>
          <a:xfrm>
            <a:off x="5943600" y="2819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01" name="Audio 3" descr=""/>
          <p:cNvPicPr/>
          <p:nvPr/>
        </p:nvPicPr>
        <p:blipFill>
          <a:blip r:embed="rId3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Бактеријске инфекције у трудноћ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1447560"/>
            <a:ext cx="53341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Cambria"/>
              </a:rPr>
              <a:t>Листери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ambria"/>
              </a:rPr>
              <a:t>Listeria monocytogenes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, грам позитивни штапић, интрацелуларни параз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Феко-орална инфекција мајке, ингестијом контаминиране воде или хр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Инфекција мајке асимптоматска или у виду грипозног синдро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Инфекција плода: трансплацентарни пренос или током проласка кроз заражени порођајни кан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Content Placeholder 4" descr="listerija 3.jpg"/>
          <p:cNvPicPr/>
          <p:nvPr/>
        </p:nvPicPr>
        <p:blipFill>
          <a:blip r:embed="rId1"/>
          <a:stretch/>
        </p:blipFill>
        <p:spPr>
          <a:xfrm>
            <a:off x="5446800" y="2971800"/>
            <a:ext cx="3508200" cy="1905120"/>
          </a:xfrm>
          <a:prstGeom prst="rect">
            <a:avLst/>
          </a:prstGeom>
          <a:ln w="0">
            <a:noFill/>
          </a:ln>
        </p:spPr>
      </p:pic>
      <p:pic>
        <p:nvPicPr>
          <p:cNvPr id="405" name="Audio 12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Патогенеза листериозе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07" name="Content Placeholder 3" descr="listerija patogeneya.jpg"/>
          <p:cNvPicPr/>
          <p:nvPr/>
        </p:nvPicPr>
        <p:blipFill>
          <a:blip r:embed="rId1"/>
          <a:stretch/>
        </p:blipFill>
        <p:spPr>
          <a:xfrm>
            <a:off x="762120" y="1676520"/>
            <a:ext cx="7286400" cy="4525920"/>
          </a:xfrm>
          <a:prstGeom prst="rect">
            <a:avLst/>
          </a:prstGeom>
          <a:ln w="0">
            <a:noFill/>
          </a:ln>
        </p:spPr>
      </p:pic>
      <p:pic>
        <p:nvPicPr>
          <p:cNvPr id="408" name="Audio 5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Конгенитална инфекциј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Listeriom monocytogene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Последице интраутерине инфекције по пл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Аборт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Интраутерина смрт пл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Мртворође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Превремено рађање инфицираног дет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Audio 10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Неонатална инфекција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 Listeriom monocytogenes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68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Трансплацентарни пренос у  трећем триместру или проласком кроз порођајни кан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ambria"/>
              </a:rPr>
              <a:t>Granulomatosis infrantiseptica</a:t>
            </a:r>
            <a:r>
              <a:rPr b="0" i="1" lang="en-US" sz="2000" spc="-1" strike="noStrike">
                <a:solidFill>
                  <a:srgbClr val="ffffff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тешка слика милијарне болести, смртност 90%, преживели често имају секве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Рана новорођеначка сепса-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не разликује се од сепсе других узрочника, углавном се не манифестује менигитисом, преживели ретко имaју неуролошке секвел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асна новорођеначка сепса-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настаје након инфекције у порођајном каналу, манифестује се у трћеој недељи и уобичајено је да се јавља менингоенцефалит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Audio 2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Verdana"/>
              </a:rPr>
              <a:t>Саставни делови овулума код труднице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3" name="Picture 2" descr="D:\intrauterine predavanje Bilja\anatomija placente.jpg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4349880"/>
          </a:xfrm>
          <a:prstGeom prst="rect">
            <a:avLst/>
          </a:prstGeom>
          <a:ln w="0">
            <a:noFill/>
          </a:ln>
        </p:spPr>
      </p:pic>
      <p:pic>
        <p:nvPicPr>
          <p:cNvPr id="274" name="Audio 5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advTm="54000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Дијагноза и терапија листериозе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51920" y="160020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Дијагн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Култивација- ликвор, крв, бриса ждрела, урина, размаз меконијума бојеном по Гра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Серолошка дијагностика- аглутинација, детекција антитела на листериолизин 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Терап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Аmpicilin или Penicilin уз Аminoglikozide због бактерицидног деј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Код алергичних  Kotrimoksaz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Content Placeholder 5" descr="kultura listerijs.jpg"/>
          <p:cNvPicPr/>
          <p:nvPr/>
        </p:nvPicPr>
        <p:blipFill>
          <a:blip r:embed="rId1"/>
          <a:stretch/>
        </p:blipFill>
        <p:spPr>
          <a:xfrm>
            <a:off x="5638680" y="3048120"/>
            <a:ext cx="3251160" cy="1828800"/>
          </a:xfrm>
          <a:prstGeom prst="rect">
            <a:avLst/>
          </a:prstGeom>
          <a:ln w="0">
            <a:noFill/>
          </a:ln>
        </p:spPr>
      </p:pic>
      <p:pic>
        <p:nvPicPr>
          <p:cNvPr id="418" name="Audio 7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Перинатална инфекција стрептококом групе Б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Узрочник је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ß хемолитички стрептокок групе 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Колонизација труднице вагине или уретр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нфекција труднице: ендометритис, уринарна инфекција, сепса, менингитис, абдоминални апсце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олест новорођенчета: првих седам дана по рођењу, респираторни дистрес, сепса,  менингитис, пустуле по кож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Content Placeholder 6" descr="streptokok 1.jpg"/>
          <p:cNvPicPr/>
          <p:nvPr/>
        </p:nvPicPr>
        <p:blipFill>
          <a:blip r:embed="rId1"/>
          <a:stretch/>
        </p:blipFill>
        <p:spPr>
          <a:xfrm>
            <a:off x="5257800" y="2666880"/>
            <a:ext cx="3657600" cy="2338560"/>
          </a:xfrm>
          <a:prstGeom prst="rect">
            <a:avLst/>
          </a:prstGeom>
          <a:ln w="0">
            <a:noFill/>
          </a:ln>
        </p:spPr>
      </p:pic>
      <p:pic>
        <p:nvPicPr>
          <p:cNvPr id="422" name="Audio 4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62160" y="5331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a0b0"/>
                </a:solidFill>
                <a:latin typeface="Verdana"/>
                <a:ea typeface="Verdana"/>
              </a:rPr>
              <a:t>Дијагноза и терапија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24" name="Picture Placeholder 7" descr="streptokok kultura.jpg"/>
          <p:cNvPicPr/>
          <p:nvPr/>
        </p:nvPicPr>
        <p:blipFill>
          <a:blip r:embed="rId1"/>
          <a:stretch/>
        </p:blipFill>
        <p:spPr>
          <a:xfrm>
            <a:off x="182520" y="1481040"/>
            <a:ext cx="4206960" cy="54435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47960" y="2514600"/>
            <a:ext cx="4190760" cy="274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b0f0"/>
                </a:solidFill>
                <a:latin typeface="Cambria"/>
              </a:rPr>
              <a:t>Дијагноза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 - култивација бактерије из крви, цереброспиналне течности,  урина, ендотрахеалног аспир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b0f0"/>
                </a:solidFill>
                <a:latin typeface="Cambria"/>
              </a:rPr>
              <a:t>Терапија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- Penicilin G, Ampicilin, Gentamic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Audio 1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19360" y="4191120"/>
            <a:ext cx="4190760" cy="761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Verdana"/>
                <a:ea typeface="Verdana"/>
              </a:rPr>
              <a:t>Хвала на пажњи</a:t>
            </a:r>
            <a:r>
              <a:rPr b="0" lang="en-US" sz="2800" spc="-1" strike="noStrike">
                <a:solidFill>
                  <a:srgbClr val="00b0f0"/>
                </a:solidFill>
                <a:latin typeface="Verdana"/>
                <a:ea typeface="Verdan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28" name="Content Placeholder 3" descr="images.jpg"/>
          <p:cNvPicPr/>
          <p:nvPr/>
        </p:nvPicPr>
        <p:blipFill>
          <a:blip r:embed="rId1"/>
          <a:stretch/>
        </p:blipFill>
        <p:spPr>
          <a:xfrm>
            <a:off x="457200" y="907920"/>
            <a:ext cx="3651120" cy="23688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D:\intrauterine predavanje Bilja\images1.jpg"/>
          <p:cNvPicPr/>
          <p:nvPr/>
        </p:nvPicPr>
        <p:blipFill>
          <a:blip r:embed="rId2"/>
          <a:stretch/>
        </p:blipFill>
        <p:spPr>
          <a:xfrm>
            <a:off x="533520" y="4017960"/>
            <a:ext cx="3581280" cy="20318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D:\intrauterine predavanje Bilja\index3.jpg"/>
          <p:cNvPicPr/>
          <p:nvPr/>
        </p:nvPicPr>
        <p:blipFill>
          <a:blip r:embed="rId3"/>
          <a:stretch/>
        </p:blipFill>
        <p:spPr>
          <a:xfrm>
            <a:off x="5791320" y="914400"/>
            <a:ext cx="2079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Фактори који утичу на настанак инфекције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Зрелост плода у моменту инфек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Имунолошки статус труд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Очуваност плаценте, односно овулу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Врста, бројност и вирулентност микроорганиз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Предиспонирајући фактор: физиолошка имунодефицијенција пл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Audio 8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Verdana"/>
                <a:ea typeface="Verdana"/>
              </a:rPr>
              <a:t>Последице инфекција у току трудноће по плод </a:t>
            </a:r>
            <a:br>
              <a:rPr sz="3900"/>
            </a:b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Verdana"/>
              </a:rPr>
              <a:t>Спонтани побача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Verdana"/>
              </a:rPr>
              <a:t>Интраутерина смрт пл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Verdana"/>
              </a:rPr>
              <a:t>Превремено рођење дет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Verdana"/>
              </a:rPr>
              <a:t>Рођење детета са конгениталним малформациј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Verdana"/>
              </a:rPr>
              <a:t>Рођење детета са системским инфекциј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Verdana"/>
              </a:rPr>
              <a:t>Рођење детета ниске порођајне мас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Verdana"/>
              </a:rPr>
              <a:t>Рођење наизлед здравог дет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Audio 19" descr=""/>
          <p:cNvPicPr/>
          <p:nvPr/>
        </p:nvPicPr>
        <p:blipFill>
          <a:blip r:embed="rId1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  <a:ea typeface="Verdana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тиолошки узрочници инфекција у трудноћ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0" y="1447920"/>
          <a:ext cx="9144000" cy="5410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3" marL="1371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рус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3" marL="1371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ктериј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2f2f2"/>
                          </a:solidFill>
                          <a:uFillTx/>
                          <a:latin typeface="Arial"/>
                        </a:rPr>
                        <a:t>Rub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99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Listeria monocytoge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2f2f2"/>
                          </a:solidFill>
                          <a:uFillTx/>
                          <a:latin typeface="Arial"/>
                        </a:rPr>
                        <a:t>Cytomegalo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Streptococcus grupe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2f2f2"/>
                          </a:solidFill>
                          <a:uFillTx/>
                          <a:latin typeface="Arial"/>
                        </a:rPr>
                        <a:t>Herpes simplex 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Treponema pallid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Varicella zoster 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C</a:t>
                      </a:r>
                      <a:r>
                        <a:rPr b="0" lang="sr-Latn-R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lamy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Parvo B 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Spirohe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Coxsackie i echoviru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3" marL="1371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отоз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HIV 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2f2f2"/>
                          </a:solidFill>
                          <a:uFillTx/>
                          <a:latin typeface="Arial"/>
                        </a:rPr>
                        <a:t>Toxoplasma gond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Hepatitis C 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Plasmo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Hepatitis B 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Papilloma 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3" name="Audio 12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0" y="914400"/>
            <a:ext cx="4952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линичка слика зависи од времена настанка инфекције током трудноћ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линички симптоми су често неспецифич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Различити узрочници дају сличну клиничку сли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Cambria"/>
              </a:rPr>
              <a:t>Клиничка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слика слична другим стањима неинфективне етиолог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Неопходна брза етиолошка дијагно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Content Placeholder 10" descr="beba konge.jpg"/>
          <p:cNvPicPr/>
          <p:nvPr/>
        </p:nvPicPr>
        <p:blipFill>
          <a:blip r:embed="rId1"/>
          <a:stretch/>
        </p:blipFill>
        <p:spPr>
          <a:xfrm>
            <a:off x="4952880" y="1828800"/>
            <a:ext cx="3932280" cy="4375080"/>
          </a:xfrm>
          <a:prstGeom prst="rect">
            <a:avLst/>
          </a:prstGeom>
          <a:ln w="0">
            <a:noFill/>
          </a:ln>
        </p:spPr>
      </p:pic>
      <p:pic>
        <p:nvPicPr>
          <p:cNvPr id="286" name="Audio 5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ТОRCH  синдром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560" y="1218960"/>
            <a:ext cx="55623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Медицински акроним за синдром дисеминованих интраутериних инфекциј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oxoplasma gondii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О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THER INFECTION (druge infekcije): VZV, Parvo B19, Syphylis., Listeria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ubella virus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ytomegalovirus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____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erpes symplex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_____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Content Placeholder 8" descr="trudnica.jpg"/>
          <p:cNvPicPr/>
          <p:nvPr/>
        </p:nvPicPr>
        <p:blipFill>
          <a:blip r:embed="rId1"/>
          <a:stretch/>
        </p:blipFill>
        <p:spPr>
          <a:xfrm>
            <a:off x="5867280" y="2438280"/>
            <a:ext cx="2895840" cy="2895840"/>
          </a:xfrm>
          <a:prstGeom prst="rect">
            <a:avLst/>
          </a:prstGeom>
          <a:ln w="0">
            <a:noFill/>
          </a:ln>
        </p:spPr>
      </p:pic>
      <p:pic>
        <p:nvPicPr>
          <p:cNvPr id="290" name="Audio 1" descr=""/>
          <p:cNvPicPr/>
          <p:nvPr/>
        </p:nvPicPr>
        <p:blipFill>
          <a:blip r:embed="rId2"/>
          <a:stretch/>
        </p:blipFill>
        <p:spPr>
          <a:xfrm>
            <a:off x="8585280" y="62992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c</dc:creator>
  <dc:description/>
  <dc:language>en-US</dc:language>
  <cp:lastModifiedBy>Milan Milojevic</cp:lastModifiedBy>
  <dcterms:modified xsi:type="dcterms:W3CDTF">2023-09-18T13:13:34Z</dcterms:modified>
  <cp:revision>157</cp:revision>
  <dc:subject/>
  <dc:title>Slide 1</dc:title>
</cp:coreProperties>
</file>